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687F-BAD4-44CA-A41A-AB022AF2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F262-25C6-4980-8AD7-EF221C56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E524-C777-4739-923B-42E5695F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377-18B1-492A-B7AC-368166AA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E59-6979-4F27-994F-35D9C3BA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287-E635-4F16-8437-70A78857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F035-88CA-4D70-B04B-7D0CE5F3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D5A7-CF67-44EF-A417-51B25374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0533-2598-480A-BBA9-027431B3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DD3C-F242-4841-8E0E-BFE2F710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6023-7BD2-4EFF-9F10-D192792B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33EF-AB8A-4801-8845-97A7B561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>
            <a:alpha val="5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D813-AFF8-41B5-8E05-D7C33AA93F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fipi.ru/oge-i-gve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oge.fipi.ru/os/xmodules/qprint/index.php?proj=AE63AB28A2D28E194A286FA5A8EB9A78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тоги ОГЭ - 2018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 обществознанию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дготовка выпускников к итоговой аттестации - 2019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спективные модели КИМ ОГЭ 2020 г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523880" y="5105520"/>
            <a:ext cx="66294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в.отделом обществоведческих дисциплин БУ ОО ДПО «Институт развития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тюхина Н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 марта 201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04920" y="0"/>
            <a:ext cx="86868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озициях 27 и 28 ошибки часто были связаны с невнимательностью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умением выделить количество заданных вопросом параметров отве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также несомненной сложностью понимания самого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№29 предполагает высокий уровень сложности, что связано с необходимостью выхода за рамки содержания текста и привлечением контекстных знаний обществоведческого курса, фактов общественной жизни или личного социального опыта выпуск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% выпускников частично выполнили его. Полностью с данным заданием справилос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 %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пуск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ОГЭ по обществознанию в 2018 г. позволило выявить определенны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обелы в знания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пускников по некоторым разделам курса обществознания основной школы и прежде всего по блок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Полит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( темы "Государство", "Политическое участие"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Духовная жизнь общества"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"Свобода , как ценность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Социология"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Тема "Семья. Типы семей"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дагогам необходимо уделить большее внимание работе над указанными темами в процессе изучения кур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1522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собое внимание при обучении обществознанию в основной школе следует уделять развитию умения составлять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план фрагмента текст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ормировать это умение следует с опорой на межпредметные связ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ажно, чтобы школьники усвоили, что составление плана требует  внимательного прочтения текста, уяснения его содержания, выявления основных идей текста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и этом формулировки заголовков-пунктов плана должны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наиболее полно раскрывать мысль автора,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ответствовать логике содержания, отражать тему (основную мысль текста). Обучающиеся должны уметь составлять как простые (т.е. включающие название значительных частей текста), так и  сложные (включающие наряду с названием значительных частей текста и их смысловые компоненты).  Причём, в разной форме: вопросной, назывной, тезисной, смешанно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з лучшег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520" y="609120"/>
            <a:ext cx="403884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абз. Госуда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абз. Терри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абз. Мудрость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1. Происхождение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2. Благо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3  Равноправное госуда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609480"/>
            <a:ext cx="4495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6. Обучение, требования общества. Принципы в стране. Модель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очему в семье было стр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Дети помогали матер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Помогал ли кто-нибудь отц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Дед работ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иллюстрируйте примерами взаимодействие человека и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Игорь\Desktop\фото март 2019\WP_20190303_21_22_43_Pro.jpg"/>
          <p:cNvPicPr/>
          <p:nvPr/>
        </p:nvPicPr>
        <p:blipFill>
          <a:blip r:embed="rId1"/>
          <a:stretch/>
        </p:blipFill>
        <p:spPr>
          <a:xfrm>
            <a:off x="228600" y="2057400"/>
            <a:ext cx="8755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80520" y="137124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дификато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ов содержания и требований к уровню подготовки выпускников образовательных организаций для проведения основного государственного экзамена по обществознани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фик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ных измерительных материалов для проведения в 2019 г. основного  государственного экзамена по обществознани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монстрационный вариан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ных измерительных материалов основного  государственного экзамена 2019 г. по обществозн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371600" y="-291240"/>
            <a:ext cx="609588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ИП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ормативная база ОГ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Что день грядущий нам готовит?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320" y="15998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спективная модель измерительных материалов для государственной итог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ттестации по программам основного обще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fipi.ru/oge-i-gve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9/demoversii-specifikacii-kodifik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4011480" y="2279520"/>
            <a:ext cx="506592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3352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СПЕЦИФИКАЦИИ ОГЭ-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. Назначение КИМ – оценить уровень общеобразовательной подготовки по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ществознанию выпускников IX классов общеобразовательных организаций в целях государственной итоговой аттестации выпуск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. Документы, определяющие содержание К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держание КИМ определяется на основе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Федерального государственного образовательного стандарта основного общего образ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Приказ Министерства образования и науки РФ №1897 от 29 декабря 2010 г.) и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ной основной образовательной программы основного общего образ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одобрена решением федерального учебно-методического объединения по общему образованию (протокол от 8 апреля 2015 г. № 1/15)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ВОЗМОЖНЫ ИЗМЕНЕНИЯ, Т.К. ПРИНЯТА КОНЦЕПЦИЯ И ОБСУЖДАЛИСЬ ИЗМЕНЕНИЯ ВО ФГОС ООО (В ЧАСТИ ПЛАНИРУЕМЫХ РЕЗУЛЬТАТО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763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раткая характеристика новых типов заданий ОГЭ-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44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2103480"/>
          <a:ext cx="4040280" cy="4525920"/>
        </p:xfrm>
        <a:graphic>
          <a:graphicData uri="http://schemas.openxmlformats.org/drawingml/2006/table">
            <a:tbl>
              <a:tblPr/>
              <a:tblGrid>
                <a:gridCol w="404028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ие из перечисленных терминов используются, в первую очередь, п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и политической сферы обществ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та; доход; власть; демократия; собственн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шите соответствующие термины и раскройте смысл любого одн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. Запишите развёрнутый отв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be0"/>
                    </a:solidFill>
                  </a:tcPr>
                </a:tc>
              </a:tr>
            </a:tbl>
          </a:graphicData>
        </a:graphic>
      </p:graphicFrame>
      <p:sp>
        <p:nvSpPr>
          <p:cNvPr id="76" name="Прямоугольник 12"/>
          <p:cNvSpPr/>
          <p:nvPr/>
        </p:nvSpPr>
        <p:spPr>
          <a:xfrm>
            <a:off x="4572000" y="129528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З  СПЕЦ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 1 проверяет умение раскрывать смысл ключевых понятий базовых для школьного обществозн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гуманитарных нау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формы совместной деятельности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80880" y="30492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ние №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лассе появился новый ученик, которы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л претендовать на мест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идера. Среди одноклассников возни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фликт: часть ребят поддержала новенького, часть – нет. Что поможет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цивилизованн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разреши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фликтную ситуацию? Запишите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цифры, под которыми указаны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ующие пози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трудничество двух лиде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емление двух группировок класса существовать изолирован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заимный бойкот лидерами друг дру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говор двух лидеров, направленный на поиск компромис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ращение за помощью к посреднику в целях разрешения конфли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№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5, 15 (количество верных выборов не задано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ичество участников ОГЭ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обществознанию за последние 3 год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920" y="1600200"/>
          <a:ext cx="8534160" cy="4449600"/>
        </p:xfrm>
        <a:graphic>
          <a:graphicData uri="http://schemas.openxmlformats.org/drawingml/2006/table">
            <a:tbl>
              <a:tblPr/>
              <a:tblGrid>
                <a:gridCol w="1285920"/>
                <a:gridCol w="1558800"/>
                <a:gridCol w="1322280"/>
                <a:gridCol w="1522440"/>
                <a:gridCol w="1273320"/>
                <a:gridCol w="1571400"/>
              </a:tblGrid>
              <a:tr h="12049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c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c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c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8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8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от общего числа учас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8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8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от общего числа учас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8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8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от общего числа учас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8e5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b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b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b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7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b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b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28600" y="-36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ИЗ СПЕЦИФИК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мение использовать ключевые понятия и теоретические положения базовых социально-гуманитарных наук для объяснения явлений социальной действительности, личного социального опыт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/ИЛ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е взаимодействовать с людьми другой культуры, национальной и религиозной принадлежности на основ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циональных ценностей современного российского обществ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уманистических и демократических ценностей, идей мира и взаимопонимания между народами, людьми разных культур осознание ценности культуры и традиций народов Росси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 Прочитайте высказывание. «Вежливость есть… выражение уважения ко всякому человеку». (Н.А. Бердяев) Используя обществоведческие знания, объясните мысль автора. Запишите развёрнут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дания №8 и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24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ют ум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ить социальную информацию из одной знаковой системы в другую (из текста в таблицу/диаграмму, из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удиовизуального ряд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кст/диаграмму и др.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ирать знаковые системы представления информации адекватно познавательной и коммуникативной ситу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ть полученные знания в практической (включа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ектн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деятельности, а также в повседневной жизни для реализации и защиты прав человека и гражданина, осознанного выполнения гражданских обязанностей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вать поведение людей с точки зрения социальных норм, экономической рациональности, осознание неприемлемости антиобщественно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714640" y="1142640"/>
            <a:ext cx="3429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Какой вид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кономической деятельности осуществляют члены семь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уя личный социальный опыт, </a:t>
            </a: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сформулируйте два правил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ционального осуществления этой деятельности и </a:t>
            </a: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кратко поясните каждое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 прави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шите развёрнутый отв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0520" y="1392120"/>
            <a:ext cx="566892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57240" y="76320"/>
            <a:ext cx="9010440" cy="544176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0" y="5562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ормулируйте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вод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а) о сходств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б) о различи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озициях груп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ошенных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скаж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оложение о том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чем объясняет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) сх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) различ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ишите развёрнутый от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873000" y="144360"/>
            <a:ext cx="7323120" cy="3970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152280" y="4267080"/>
            <a:ext cx="87663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чтите текст и выполните задания 19–22. Запишите сначала номер задания, а затем развёрнутый ответ на него. Ответы записывайте чётко и разборчи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2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сскажи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вух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ческих памятниках / музеях своего населённого пункта / региона, которые Вы считаете наиболее важными и ценными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ясните, в чём ценность каждого из н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030320" y="2765520"/>
            <a:ext cx="69706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6840" y="304920"/>
            <a:ext cx="83818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ый банк заданий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oge.fipi.ru/os/xmodules/qprint/index.php?proj=AE63AB28A2D28E194A286FA5A8EB9A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МК из нового ФПУ-1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голюбов Л.Н.и др. Обществознание, 6 - 9 кл. М.: Просве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кова Т.Е, Котова О.В. Обществознание, 6-9 кл. М., Просвещение (Сфе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ЗУЛЬТАТЫ ВЫПУСКНИКОВ ОРЛОВСКОЙ ОБЛАСТИ В ОГЭ ПО ОБЩЕСТВОЗН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6320" y="1066680"/>
          <a:ext cx="8991360" cy="5869080"/>
        </p:xfrm>
        <a:graphic>
          <a:graphicData uri="http://schemas.openxmlformats.org/drawingml/2006/table">
            <a:tbl>
              <a:tblPr/>
              <a:tblGrid>
                <a:gridCol w="2247840"/>
                <a:gridCol w="2247840"/>
                <a:gridCol w="2247840"/>
                <a:gridCol w="2247840"/>
              </a:tblGrid>
              <a:tr h="855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выпускников, получивш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d0be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ловская обла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d0b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8e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 го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8e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8e5"/>
                    </a:solidFill>
                  </a:tcPr>
                </a:tc>
              </a:tr>
              <a:tr h="855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у «2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b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2a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2a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2a3"/>
                    </a:solidFill>
                  </a:tcPr>
                </a:tc>
              </a:tr>
              <a:tr h="855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и «4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8e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e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e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e0"/>
                    </a:solidFill>
                  </a:tcPr>
                </a:tc>
              </a:tr>
              <a:tr h="855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b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49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выпускников, набравших максимальное количество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8e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9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9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9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5120" y="586692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"/>
          <p:cNvGraphicFramePr/>
          <p:nvPr/>
        </p:nvGraphicFramePr>
        <p:xfrm>
          <a:off x="0" y="304920"/>
          <a:ext cx="9144000" cy="5410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04920"/>
                    <a:ext cx="9144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ырос показатель качества зна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й (количество выпускников, получивших отметки 4 и 5)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величился  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3,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% (с 39 до 52,8 %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ксимальное количе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баллов в 2018 г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брали 6 выпускник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 2017 - ни одног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ложные типы зад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1920" y="91404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на анализ двух суж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на установление фактов и м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6 – на умение составить план текста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8 – на извлечение и интерпретацию информации, представленной в тексте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- задание на привлечение контекстных знаний обществоведческого курса, фактов общественной жизни или личного социального опыта выпускника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8600" y="3045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 – на умение соотносить отдельные факты и социальные процессы, применять знания обществоведческого курса, дополнять знания курса информацией из предложенного источника, применять источник социальной информации для решения проблемы и др. 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1 – на формулирование и аргументацию выпускником собственного суждения по актуальному проблемному вопросу общественной жизни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редний процент выполнения заданий части 1 по содержательным блокам состав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Человек и общество – 73,3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Сфера духовной культуры – 78,8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Экономика - 7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Социальная сфера – 88,4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5. Сфера политики и социального управления – 49,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Право -79,8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№26 требует умения составить план текста, выделив его основные смысловые фрагменты и озаглавив каждый из н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проверок показывает, что  данное умение не достаточно сформировано у многих школьников. Некоторые школьники затрудняются с пониманием структуры текста, определением главной идеи смысловых частей, а также с кратким и адекватным словесным выражением этой иде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0T11:00:23Z</dcterms:created>
  <dc:creator>31</dc:creator>
  <dc:description/>
  <dc:language>en-US</dc:language>
  <cp:lastModifiedBy>Игорь</cp:lastModifiedBy>
  <dcterms:modified xsi:type="dcterms:W3CDTF">2019-03-03T19:35:37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